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AF9AC-379A-4D81-9414-58937EE7A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16107-D40E-4C7C-AC80-2AEC461FE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B8F6A-5631-4FF7-8A03-6CC357A43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B6D7D-1B95-426A-B97B-9CBC40527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2A1D4-FD84-4217-A251-E71A088A8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F8571-4B6C-4FA9-8E32-41F3292E4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62E47-26A9-4585-A447-4A48BFC5E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D6985-4474-4D7F-8038-E4AF29D48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5C6CD-1B8C-44B4-9816-7F8EEBB64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D65B-F9A3-49E3-8A07-1954B82D5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DBC4F-A5A7-4682-9EF3-44301175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B4A7B-D2DE-4668-8F7C-C00ACA8D1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53D4-DB06-4236-AEEB-EDC1DBF15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The Black Death</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y.</a:t>
            </a:r>
            <a:endParaRPr b="0" lang="en-US" sz="24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Dylan Wat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Path</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If the plague had just stayed in one city, the containment might have spared Europe. Unfortunately, the plague spread when people fled to other ci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tells us that the plague started in Asia, and moved west with Mongol armies and trader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gue traveled on trade routes and caravans. Its path of death was generally from south to north and east to west passing through Italy, France, England, Germany, Denmark, Sweden, Poland, Finland, and eventually reaching Greenland.</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ttempts to stop the plague failed over and over again. There were some measures that were taken that worked for a little while but people continued to die.</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762120" y="3429360"/>
            <a:ext cx="77724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urned all manner of incense: juniper, laurel, pine, beech, lemon leaves, rosemary, camphor and sulfur. Others had handkerchiefs dipped in aromatic oils, to cover their faces when going out. All of which did not work very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es were hardest hit and tried to take measures to control an epidemic no one understood. In Milan, to take one of the most successful examples, city officials immediately walled up houses found to have the plague, isolating the healthy in them along with the sick. Venice took sophisticated and stringent quarantine and health measures, including isolating all incoming ships on a separate island. But people died anyway, though fewer in Milan and Venice than in cities that took no such measures. Pope Clement VI, living at Avignon, sat between two large fires to breath pure air. The plague bacillus actually is destroyed by heat, so this was one of the few truly effective measures tak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3333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33520" y="2057400"/>
            <a:ext cx="8229600" cy="1371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x, Skip. "Effect on Europe." </a:t>
            </a:r>
            <a:r>
              <a:rPr b="0" lang="en-US" sz="2000" spc="-1" strike="noStrike" u="sng">
                <a:solidFill>
                  <a:srgbClr val="000000"/>
                </a:solidFill>
                <a:uFillTx/>
                <a:latin typeface="Arial"/>
              </a:rPr>
              <a:t>Black Death</a:t>
            </a:r>
            <a:r>
              <a:rPr b="0" lang="en-US" sz="2000" spc="-1" strike="noStrike">
                <a:solidFill>
                  <a:srgbClr val="000000"/>
                </a:solidFill>
                <a:latin typeface="Arial"/>
              </a:rPr>
              <a:t>. 2000. 20 Feb 2008 &lt;http://www.insecta-inspecta.com/fleas/bdeath/Black.html</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990720" y="3526920"/>
            <a:ext cx="77025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ederick F. Cartwright, DISEASE AND HISTORY, Dorset Press, New York, 1991, p. 42.</a:t>
            </a:r>
            <a:endParaRPr b="0" lang="en-US" sz="1800" spc="-1" strike="noStrike">
              <a:solidFill>
                <a:srgbClr val="000000"/>
              </a:solidFill>
              <a:latin typeface="Arial"/>
            </a:endParaRPr>
          </a:p>
        </p:txBody>
      </p:sp>
      <p:sp>
        <p:nvSpPr>
          <p:cNvPr id="68" name=""/>
          <p:cNvSpPr txBox="1"/>
          <p:nvPr/>
        </p:nvSpPr>
        <p:spPr>
          <a:xfrm>
            <a:off x="1295280" y="838080"/>
            <a:ext cx="6477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Work Cited</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3333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533520" y="2285640"/>
            <a:ext cx="82296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ack death came in three different forms bubonic, pneumonic, and septicemic.</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bonic plague was the most common type of the Black Death. The death rate was 30-75%</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who had this type were subject to headaches, nausea, aching joints, fever of 101-105 degrees, vomiting, and a general feeling of illness. Symptoms took from 1-7 days to app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4" name=""/>
          <p:cNvSpPr txBox="1"/>
          <p:nvPr/>
        </p:nvSpPr>
        <p:spPr>
          <a:xfrm>
            <a:off x="1676520" y="914400"/>
            <a:ext cx="5181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Bubonic</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Pneumoni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eumonic plague was the second most popular form of the Black Deat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neumonic and the septicemic plague were seen less then the bubonic plague because the victims of these two types of the black death, often died before they could reach other pl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ath rate for this style of the plaque was all the way up to 90 to 9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eumonic attacked the lungs, and people could tell by looking at there spit.  If it was slimy with some blood that was a good warning 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238400" y="1219320"/>
            <a:ext cx="6667200" cy="44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pticemic plague was the most rare form of all three types. The mortality was close to 100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type of plague were to break out today there would still be no way of stopping the spread of it.  We still have no c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ed to you if you got it was what doctors  called DIC or disseminated intravascular coagu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d your skin to turn a deep purple or black.  This is where the plague got its name fr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lague was at its worst nearly 800 people would die every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62120" y="969840"/>
            <a:ext cx="7391160" cy="477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5e"/>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he three forms of the Black Death were transmitted two ways. The septicemic and bubonic plague were transmitted with direct contact with a flea, the pneumonic plague was transmitted through airborne droplets of saliva coughed up by bubonic or septicemic infected people. Fleas, humans, and rats served as hosts for the diseas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txBox="1"/>
          <p:nvPr/>
        </p:nvSpPr>
        <p:spPr>
          <a:xfrm>
            <a:off x="4343400" y="3429000"/>
            <a:ext cx="46483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e Transporter</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66003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ffect on Europ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ack Death killed off a huge portion of Europe's population. The plague is more effective when it attacks weakened people, and Europe at the time was already weakened because of how difficult he farming was along with the toughness of lif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762120" y="3426840"/>
            <a:ext cx="79246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people were tormented by the threat of death, causing them to change their views on leisure, work, and art. Even children suffered because of how hard the times were the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0T05:09:46Z</dcterms:created>
  <dc:creator>Owner</dc:creator>
  <dc:description/>
  <dc:language>en-US</dc:language>
  <cp:lastModifiedBy>fitepw</cp:lastModifiedBy>
  <dcterms:modified xsi:type="dcterms:W3CDTF">2008-02-22T20:24:19Z</dcterms:modified>
  <cp:revision>2</cp:revision>
  <dc:subject/>
  <dc:title>The Black Death</dc:title>
</cp:coreProperties>
</file>